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0D7-FFF4-47E2-A944-42D3E3285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D054-326D-4696-88BA-E4DEEB91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CE6A5-1709-48AC-8BB2-4BB1D4D66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1315A9-3408-49CE-8250-9AE51936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4941A6-5050-4A3C-96AE-EEBCE7AC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0D2898-4AB8-4752-923A-4C8062D2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4779FD-A79D-4818-9BF2-BC84B7BC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7973A-9EC8-4C73-BC26-B5CC89DF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52864-8073-46FA-9135-C0021C6C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DF4B56-D9C4-4F23-9489-FD7B7D912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553853-C68B-4BDA-B2B1-03B8C0A1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0C5694-E07A-443F-B10D-ED3B5AEC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4D7-C63E-4695-BB0B-78F1064FE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1BFD0-CC43-480E-9A30-9B028B72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946BF-0B4D-472B-86F8-D69130BD2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238BB3-73E7-47A0-A50E-E550A271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326BF7-F629-4217-ADB5-6D6EC48BB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0A607-F34E-4C00-BF77-79EB5304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C4F1DF-7CE1-4A6C-90CB-9546CF3B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2A970-C58D-4B08-B156-5A5C91EC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507480-C61E-42DE-B88D-8E4E7669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CBFED-D60F-4393-B720-E635BCBC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EA975F-E550-4760-B339-058376ED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B168-4C22-4155-BEFF-BDB77FDA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550167-7F78-4DE7-B0CE-B4036578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1BB87-0E8B-4644-B10D-8780856E4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9EEF2-FDBE-40F4-9DBC-5B67D159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43717-9843-4F37-A85C-AE471187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A47431-9AEB-49A6-BAF0-BF99441F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02AD1-FA4B-4145-84B2-125EF547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88004-043B-422C-861B-0FA33FAF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158EE-111B-4658-87D3-78DC0790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0CDA0-F086-42F5-9994-A38969E6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7E74F5-A15E-470A-BAFD-95C3D483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33FF-A1ED-446E-8CBB-8792163C1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C18A9-B3F5-4715-861C-BF306147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CC2825-27C9-4731-9667-7F59E8947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2704B-7516-4FE7-B3F7-810941F1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9047A-34C1-42AE-827C-1E9CFBD3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4A3B7B-C26C-498F-BDC5-0A7A686C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CA8C85-0FBF-406C-86D7-4B02E445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3B6C6D-88EA-4C42-A906-18CB9A06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DEAF89-B9DB-4396-AE99-51434F6F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E64535-9971-4872-A72D-FBB4D984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73AC3-C51D-4697-8D22-22C509AC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C496-15D6-48FF-8865-54DF9430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F88F72-E005-4B03-A7F4-2C58CA0B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C7CD90-2B9F-4532-BDC8-C35D0FAC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B583EE-FA0B-4F51-92A2-A8F3BCC5B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95365-E290-4BB6-99A2-9F27F41A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66879B-3004-4D8E-B862-DCFD49F4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2CA3-7FDD-45EB-BA9E-A6ACACC1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A368-46DA-4AEE-B5F9-B27FE285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FAAC-B4DC-4C6C-A6C7-1BCECD4C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7F69-C13D-48B6-A996-5A81C314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7221-E271-41C7-98B8-99D94B7A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02C-29D5-4DCF-95A8-221DFDAB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BCBA-6B06-445C-BBB9-32ED7CFC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1B93-8553-4052-8A96-E08AD25F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5F39-1527-42CF-BCF8-61472D0C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96FB-8A3D-4300-B7C9-C2217055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9F39-FA86-4012-807E-F7B0C77A0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943C1-EDF3-46EC-BBC0-72C284D0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25287-7F0D-452D-AE1F-28498439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0581-3520-4B80-8F2C-0958D02C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8B43A-4F5B-4C92-A35D-41A0DABF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C10F3-DE57-482A-B64C-781FCB2D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AB56-8313-4CFA-92C2-F8BC83F7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D56BB-F157-4A7F-AFC3-71A70AD8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C9CAA-3185-4CBE-91A9-872FC051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0CB0E-29DC-4B92-B2D5-00F519BF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D432-C60D-4748-996A-969A87D6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28866-6BCD-441F-8168-8821D5D6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A36E4-0F4C-448D-A455-55E4FD51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CA53F-2612-4871-928D-FB94695A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B56C4-7062-4348-A4ED-2987FF7A5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70284-8E78-4A3D-A962-7A731710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D2B0F-6165-42E1-807A-12821714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ECD-CE9A-4B96-827E-58EA0CB9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F2140-7937-42F2-99CF-A56C68C3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86267-E858-4574-BA6A-BCC181B8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9C4C2-15AC-4D20-BC8C-A8F636DD0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684DD-5A82-41D0-982B-1F20F009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63C21-3B5A-4A90-8611-B571333C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F3F00-1179-4994-859A-A4D12CCF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4FFB4-5438-46DD-B2C8-D0E5F5FE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DF522-E7FE-4B7E-A97D-B11C3786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3A174-B155-4FAF-B58D-EFD98ACC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6B6E7-264D-4289-BD0E-378AE534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A0BD-AAEA-4262-B705-19120BEB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2430F-84E0-47D2-AEC9-52C58A1FD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32943-BD31-4758-B0E3-F43CA7F3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A4F16-EAC2-4D7B-BD45-8E9CBBF0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8BBA8-B82A-407F-8D94-2FEA31B7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1D1C2-65D6-4809-B529-176104C8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8E0EF-151D-4E80-89B4-BC861AD5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FCAD1-B26B-4165-8DA7-38161E2DD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E0251-E1FD-4FE7-9EAA-1044CF6D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7477F-67EF-421F-8DA0-05C0C526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FBBC8-4F5F-434E-8BBC-00B77734D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2854-274F-4BBB-92F2-DCC2A0C0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0061D-9532-4EE1-AA9B-F51F7093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522B0-66B8-4026-A582-6EE3F9D9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B580B-C23A-48CB-88CF-3251B3EE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ABC9F-075D-46CC-888A-EAC47738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9D6D4-E0E4-49D7-836F-B751A293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D4A3B-2DA1-45F1-BC2A-2C604F57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1CD0D-0C85-41CC-A3A5-6DE15164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188FD-1D4E-4F18-A7E3-5FC25DFA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6CAEC-E89D-43B7-B1AA-D2404019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86D9F-388A-44CD-AAB5-8ED8B0A5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FB52-EAF0-4235-93B4-DCD1DF51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1E0CA-BBDE-42B8-8CC5-4F7443CB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F92A7-0C84-4C93-A366-8905BED33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6D75D-54F6-4C82-98EA-694FB08A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D8A18-08A7-4784-A0A8-5733117A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40DA5-5EEB-4F4D-8237-682935CC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E5CA4-5D3B-4513-B157-8E87E531B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B1192-C0B2-41F8-8E76-8CB6722C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101C4-2D03-4F72-99F8-F443A73A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DB884-76A4-4ED7-9511-FFDC357D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52CA3-1921-4A87-8C38-3FD6FE0C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CE0-FA1B-4BD6-A1B1-6B51FA0C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B5C43-7F9A-494E-B554-3D0F1D9A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70C45-CD18-4BE6-9DA7-B10211F7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5C9C8-ADE6-4FC3-8FFB-C9EA1180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ABE12-0CB6-4E5C-97D9-89A21A568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1ACB6-92E7-4D48-B499-E541D0AE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6A596-1545-442E-81E3-EDA29079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D4742-5DED-461D-9563-F840652E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A6433-6E76-487D-A3C5-FC08F2ED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3A0C3-7C5C-40C0-9CD7-7BE67CC7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24D9C-9608-4412-9732-3087BBBE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92B-0333-4AEF-8A43-28DE009C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0E82C-8040-4C09-AA57-281D65B6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F69D9-2E62-4DF1-8564-E9CC826D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265D6-00C0-44BF-BCD3-3D4EBB55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2BC4D-9C03-48A9-BF49-99CDFE9D9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6D978-E28F-4BE0-B7B5-00D7962BD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4521C-4CB6-4324-A0CC-4E440E72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720C4-A130-47B0-A3C9-2561E059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70906-AA2D-4971-B6FC-E53DF9A95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58977-5E93-45B1-B1B2-A4844118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B58F49-BFC1-4F1B-B725-DB38CCF1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8439-EA3D-42BC-BDCC-1492B63CC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A52E-4906-4889-A532-733013BA54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7C19-8F81-4EF9-9667-D6A52CCB68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C4F1-7551-49B1-834C-4C7B4ECE4E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43F4-50B3-4641-9F3C-910994861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8452-4B4C-4C13-BEB6-9F680039F7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A21B-108F-4EF2-AE40-7A78AD32B2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0D69-E5BE-470D-86AC-FB341A2189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7ED6-DE96-4F8D-9499-0F7E9EC1F0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2988-9DC6-4E15-8CED-3954B449EC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4A0A-3691-492E-9C29-E91F10FCB2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0087-DB55-4A28-B574-12CA5E4E3C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hsgifted.wikispaces.com/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rincetonreview.com/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LLENG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range seats in a circ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rrange yourselves ALPHABETICALLY by the first letter of YOUR MIDDLE NA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ave an empty seat for “K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arliest letter should be seated in the 12’oclock positi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If no middle name or two people with the same middle name, use the LAST Letter of your FIRST (formal) nam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SSESSMENT – time &amp; accurac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s Learn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wenty-seven minutes moves quick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ompleting an assignment without “nagging”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Motivation” neede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Expectations vs excus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Didn’t know” – 3 reliable sources (+ fourth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bhsgifted.wikispaces.com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“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n’t do” – not a choice 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 </a:t>
            </a: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mmunication – in person, e-mail, phon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 - Seminar # 1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oals – better student, better perso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hared Characteristics  vs. Uniqu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 - Seminar #2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Princeton Review site/tool </a:t>
            </a:r>
            <a:r>
              <a:rPr b="0" lang="en-US" sz="27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p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PSAT, S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areer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b86"/>
                </a:solidFill>
                <a:latin typeface="Georgia"/>
              </a:rPr>
              <a:t>Colleg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ools in genera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Lessons Learned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Your inpu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14:22:03Z</dcterms:created>
  <dc:creator>bguenther</dc:creator>
  <dc:description/>
  <dc:language>en-US</dc:language>
  <cp:lastModifiedBy>bguenther</cp:lastModifiedBy>
  <dcterms:modified xsi:type="dcterms:W3CDTF">2009-10-22T20:44:10Z</dcterms:modified>
  <cp:revision>3</cp:revision>
  <dc:subject/>
  <dc:title>Lessons Learned</dc:title>
</cp:coreProperties>
</file>